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CEB-E6AC-4027-A880-165D0DF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D81-813A-4EFC-B89E-A576EF2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065-2FD3-424D-9C41-7DDB42EF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988-FACB-4B05-BA88-DAF672FA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232-910E-4714-A375-BE7385A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823-0ACB-4794-BE90-ACCB70D3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EC5-33BB-4971-879B-CF4EF9AD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E50-C965-409B-BBD5-6E97B2F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C03-8A79-4696-B16F-F6F4D0F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27D-11BB-4C18-9773-E617340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B53-8016-4C7E-9D7D-6882256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BF5-C39D-4243-BFA4-B5F15D8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A69-8800-4A68-9533-E340978B1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ilded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3 Day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media-cache-ak0.pinimg.com/736x/1c/c3/6c/1cc36cd4b2f3fe946cf0f0e8f915182a.jpg"/>
          <p:cNvPicPr/>
          <p:nvPr/>
        </p:nvPicPr>
        <p:blipFill>
          <a:blip r:embed="rId2"/>
          <a:stretch/>
        </p:blipFill>
        <p:spPr>
          <a:xfrm>
            <a:off x="2209680" y="380880"/>
            <a:ext cx="47628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2636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spel of Wealth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Carn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ilanth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people help themsel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s and hospi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hando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ts2.mm.bing.net/th?id=H.5019739847393433&amp;w=167&amp;h=188&amp;c=7&amp;rs=1&amp;pid=1.7"/>
          <p:cNvPicPr/>
          <p:nvPr/>
        </p:nvPicPr>
        <p:blipFill>
          <a:blip r:embed="rId2"/>
          <a:stretch/>
        </p:blipFill>
        <p:spPr>
          <a:xfrm>
            <a:off x="5029200" y="609480"/>
            <a:ext cx="32004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orming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5638320"/>
            <a:ext cx="3200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e Add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0.tqn.com/d/womenshistory/1/0/X/r/2/Jane-Addams-2696444x.jpg"/>
          <p:cNvPicPr/>
          <p:nvPr/>
        </p:nvPicPr>
        <p:blipFill>
          <a:blip r:embed="rId2"/>
          <a:stretch/>
        </p:blipFill>
        <p:spPr>
          <a:xfrm>
            <a:off x="3211560" y="4495680"/>
            <a:ext cx="224640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ular Callout 4"/>
          <p:cNvSpPr/>
          <p:nvPr/>
        </p:nvSpPr>
        <p:spPr>
          <a:xfrm>
            <a:off x="5867280" y="1295280"/>
            <a:ext cx="2971800" cy="4114800"/>
          </a:xfrm>
          <a:prstGeom prst="wedgeRoundRectCallout">
            <a:avLst>
              <a:gd name="adj1" fmla="val -90064"/>
              <a:gd name="adj2" fmla="val 53055"/>
              <a:gd name="adj3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! No! We must help others! The government must help it’s peop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ts2.mm.bing.net/th?id=H.5063612991602877&amp;w=113&amp;h=177&amp;c=7&amp;rs=1&amp;pid=1.7"/>
          <p:cNvPicPr/>
          <p:nvPr/>
        </p:nvPicPr>
        <p:blipFill>
          <a:blip r:embed="rId3"/>
          <a:stretch/>
        </p:blipFill>
        <p:spPr>
          <a:xfrm>
            <a:off x="0" y="0"/>
            <a:ext cx="990720" cy="155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ular Callout 3"/>
          <p:cNvSpPr/>
          <p:nvPr/>
        </p:nvSpPr>
        <p:spPr>
          <a:xfrm>
            <a:off x="380880" y="1752480"/>
            <a:ext cx="3886200" cy="2438640"/>
          </a:xfrm>
          <a:prstGeom prst="wedgeRectCallout">
            <a:avLst>
              <a:gd name="adj1" fmla="val -44939"/>
              <a:gd name="adj2" fmla="val -91541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ttest and strongest in society will survive and pros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9"/>
          <p:cNvCxnSpPr/>
          <p:nvPr/>
        </p:nvCxnSpPr>
        <p:spPr>
          <a:xfrm>
            <a:off x="4114800" y="1142640"/>
            <a:ext cx="14486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some people can’t help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ontrollable circum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ist wri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hen C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ck Lon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cob Ri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grap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The Other Half L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upload.wikimedia.org/wikipedia/commons/6/6d/Jacob_Riis_portrait.jpg"/>
          <p:cNvPicPr/>
          <p:nvPr/>
        </p:nvPicPr>
        <p:blipFill>
          <a:blip r:embed="rId2"/>
          <a:stretch/>
        </p:blipFill>
        <p:spPr>
          <a:xfrm>
            <a:off x="5029200" y="914400"/>
            <a:ext cx="3746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http://3.bp.blogspot.com/_J3962MHOojI/S9QkuewDbsI/AAAAAAAAAH8/1rVUvBj7la0/s1600/5780pb13f8cp72g%5B1%5D.jpg"/>
          <p:cNvPicPr/>
          <p:nvPr/>
        </p:nvPicPr>
        <p:blipFill>
          <a:blip r:embed="rId2"/>
          <a:stretch/>
        </p:blipFill>
        <p:spPr>
          <a:xfrm>
            <a:off x="1143000" y="609480"/>
            <a:ext cx="685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nysun.com/pics/7467.jpg"/>
          <p:cNvPicPr/>
          <p:nvPr/>
        </p:nvPicPr>
        <p:blipFill>
          <a:blip r:embed="rId2"/>
          <a:stretch/>
        </p:blipFill>
        <p:spPr>
          <a:xfrm>
            <a:off x="1143000" y="685800"/>
            <a:ext cx="7048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shrineodreams.files.wordpress.com/2012/03/5points.jpg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4.bp.blogspot.com/-HYCcYectshE/Trsd6drBYVI/AAAAAAAACLE/9uD_Zhli3FA/s1600/riis-1.thumbnail.jpg"/>
          <p:cNvPicPr/>
          <p:nvPr/>
        </p:nvPicPr>
        <p:blipFill>
          <a:blip r:embed="rId2"/>
          <a:stretch/>
        </p:blipFill>
        <p:spPr>
          <a:xfrm>
            <a:off x="2133720" y="762120"/>
            <a:ext cx="501012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Gospel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bl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M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vation A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lded 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 Twain &amp; Charles W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lded” = covering something cheap with 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at the time = Wealth + Corruption +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maricopabar.files.wordpress.com/2011/04/mark_twain7.jpg?w=800"/>
          <p:cNvPicPr/>
          <p:nvPr/>
        </p:nvPicPr>
        <p:blipFill>
          <a:blip r:embed="rId2"/>
          <a:stretch/>
        </p:blipFill>
        <p:spPr>
          <a:xfrm>
            <a:off x="685800" y="473040"/>
            <a:ext cx="2209680" cy="318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upload.wikimedia.org/wikipedia/commons/1/18/Charles_Dudley_Warner%2C_bw_photo_portrait%2C_c1897.jpg"/>
          <p:cNvPicPr/>
          <p:nvPr/>
        </p:nvPicPr>
        <p:blipFill>
          <a:blip r:embed="rId3"/>
          <a:stretch/>
        </p:blipFill>
        <p:spPr>
          <a:xfrm>
            <a:off x="6400800" y="461880"/>
            <a:ext cx="2173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lement 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lish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ndergar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. by educated, wealthy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0.tqn.com/d/womenshistory/1/0/X/r/2/Jane-Addams-2696444x.jpg"/>
          <p:cNvPicPr/>
          <p:nvPr/>
        </p:nvPicPr>
        <p:blipFill>
          <a:blip r:embed="rId2"/>
          <a:stretch/>
        </p:blipFill>
        <p:spPr>
          <a:xfrm>
            <a:off x="6316560" y="3886200"/>
            <a:ext cx="282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www.uic.edu/depts/uichistory/images/hhpostcard.jpg"/>
          <p:cNvPicPr/>
          <p:nvPr/>
        </p:nvPicPr>
        <p:blipFill>
          <a:blip r:embed="rId2"/>
          <a:stretch/>
        </p:blipFill>
        <p:spPr>
          <a:xfrm>
            <a:off x="990720" y="1295280"/>
            <a:ext cx="7238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r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tional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mericaniz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eaching students to acquire traits of the American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winsomegriffin.com/Te_Puna/Tepunaschool1900.jpg"/>
          <p:cNvPicPr/>
          <p:nvPr/>
        </p:nvPicPr>
        <p:blipFill>
          <a:blip r:embed="rId2"/>
          <a:stretch/>
        </p:blipFill>
        <p:spPr>
          <a:xfrm>
            <a:off x="3886200" y="1600200"/>
            <a:ext cx="508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for p.122-1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do you think Horatio Alger’s books helped to fuel the “American Dream”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as Carnegie a Social Darwinist? Use his quote on p.123 to support your answ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was making society worse, according to Henry Georg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would Dwight L. Moody argue with: Social Darwinists? Social Gospel Movemen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ate a conversation between Herbert Spencer and Jane Addams over the topic “What to do with the homeless and the poor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nn Diagra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cache1.bdcdn.net/assets/images/book/large/9780/1404/9780140439205.jpg"/>
          <p:cNvPicPr/>
          <p:nvPr/>
        </p:nvPicPr>
        <p:blipFill>
          <a:blip r:embed="rId2"/>
          <a:stretch/>
        </p:blipFill>
        <p:spPr>
          <a:xfrm>
            <a:off x="-533520" y="1295280"/>
            <a:ext cx="4203720" cy="451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43.tower.com/images/mm113447309/gilded-age-tale-today-mark-twain-paperback-cover-art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422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g0101.popscreencdn.com/156495500_the-gilded-age-ebook-a-tale-of-today-by-mark-twain-et-al.jpg"/>
          <p:cNvPicPr/>
          <p:nvPr/>
        </p:nvPicPr>
        <p:blipFill>
          <a:blip r:embed="rId4"/>
          <a:stretch/>
        </p:blipFill>
        <p:spPr>
          <a:xfrm>
            <a:off x="350532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2.bp.blogspot.com/_Y7NII0y3laY/TCe2USmfEFI/AAAAAAAABYA/vjDhXpxTBV4/s400/Gilded+Age.jpg"/>
          <p:cNvPicPr/>
          <p:nvPr/>
        </p:nvPicPr>
        <p:blipFill>
          <a:blip r:embed="rId5"/>
          <a:stretch/>
        </p:blipFill>
        <p:spPr>
          <a:xfrm>
            <a:off x="3276720" y="0"/>
            <a:ext cx="277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images6.fanpop.com/image/photos/32500000/greg-diary-of-a-wimpy-kid-32547710-249-488.jpg"/>
          <p:cNvPicPr/>
          <p:nvPr/>
        </p:nvPicPr>
        <p:blipFill>
          <a:blip r:embed="rId2"/>
          <a:stretch/>
        </p:blipFill>
        <p:spPr>
          <a:xfrm>
            <a:off x="6477120" y="1523880"/>
            <a:ext cx="233352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4.bp.blogspot.com/_LneNHYxrvIw/S8b5deyitFI/AAAAAAAADOU/n7_YXzpGVlM/s1600/greg_heffley.jpg"/>
          <p:cNvPicPr/>
          <p:nvPr/>
        </p:nvPicPr>
        <p:blipFill>
          <a:blip r:embed="rId3"/>
          <a:stretch/>
        </p:blipFill>
        <p:spPr>
          <a:xfrm>
            <a:off x="0" y="1701720"/>
            <a:ext cx="2362320" cy="416556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5"/>
          <p:cNvSpPr/>
          <p:nvPr/>
        </p:nvSpPr>
        <p:spPr>
          <a:xfrm>
            <a:off x="2514600" y="1828800"/>
            <a:ext cx="3886200" cy="4724280"/>
          </a:xfrm>
          <a:prstGeom prst="wedgeRoundRectCallout">
            <a:avLst>
              <a:gd name="adj1" fmla="val -28481"/>
              <a:gd name="adj2" fmla="val -64759"/>
              <a:gd name="adj3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 hard work and determination, NOTHING can hold you bac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rbert Spenc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o human society and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stified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issez-fair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capitalis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2.mm.bing.net/th?id=H.5063612991602877&amp;w=113&amp;h=177&amp;c=7&amp;rs=1&amp;pid=1.7"/>
          <p:cNvPicPr/>
          <p:nvPr/>
        </p:nvPicPr>
        <p:blipFill>
          <a:blip r:embed="rId2"/>
          <a:stretch/>
        </p:blipFill>
        <p:spPr>
          <a:xfrm>
            <a:off x="6172200" y="1219320"/>
            <a:ext cx="24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everseradio.com/wp-content/uploads/2013/04/gilded-age.jpg"/>
          <p:cNvPicPr/>
          <p:nvPr/>
        </p:nvPicPr>
        <p:blipFill>
          <a:blip r:embed="rId2"/>
          <a:stretch/>
        </p:blipFill>
        <p:spPr>
          <a:xfrm>
            <a:off x="533520" y="1143000"/>
            <a:ext cx="80881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lh4.googleusercontent.com/-UDuN8JkTt24/TXpsDJ65Z_I/AAAAAAAAAcQ/1Mp9l6fcL6g/s1600/gilded+age.jpg"/>
          <p:cNvPicPr/>
          <p:nvPr/>
        </p:nvPicPr>
        <p:blipFill>
          <a:blip r:embed="rId2"/>
          <a:stretch/>
        </p:blipFill>
        <p:spPr>
          <a:xfrm>
            <a:off x="762120" y="457200"/>
            <a:ext cx="74390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www.costumes.org/history/victorian/boehn/Photograph1880.JPG"/>
          <p:cNvPicPr/>
          <p:nvPr/>
        </p:nvPicPr>
        <p:blipFill>
          <a:blip r:embed="rId2"/>
          <a:stretch/>
        </p:blipFill>
        <p:spPr>
          <a:xfrm>
            <a:off x="1981080" y="685800"/>
            <a:ext cx="51818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s3.mm.bing.net/th?id=H.4513182905469006&amp;w=268&amp;h=188&amp;c=7&amp;rs=1&amp;pid=1.7"/>
          <p:cNvPicPr/>
          <p:nvPr/>
        </p:nvPicPr>
        <p:blipFill>
          <a:blip r:embed="rId2"/>
          <a:stretch/>
        </p:blipFill>
        <p:spPr>
          <a:xfrm>
            <a:off x="990720" y="990720"/>
            <a:ext cx="7277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1:08:04Z</dcterms:created>
  <dc:creator>loftonm</dc:creator>
  <dc:description/>
  <dc:language>en-US</dc:language>
  <cp:lastModifiedBy>Sacerdote, Kevin R.</cp:lastModifiedBy>
  <dcterms:modified xsi:type="dcterms:W3CDTF">2016-10-18T12:07:49Z</dcterms:modified>
  <cp:revision>173</cp:revision>
  <dc:subject/>
  <dc:title>The Gilded Age</dc:title>
</cp:coreProperties>
</file>